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D2E-FC4A-452F-B337-27CF496F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25D-C84C-48C1-82EB-8E635563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7483A-5B64-40AB-B9E7-925F4AE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CAE87-2CDF-4C44-BF13-F7DE66D4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6A3E7-B3D9-4F66-91E4-CA7EA8A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5FF7F-B710-4FB8-AAC1-6A4974DB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4D735-4AE4-4443-B2AB-25899E3D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370B-8AD5-43C7-BBF3-7C0CE30D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C0A28-9225-4170-ABD2-8F8FB7FA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0521A-2940-4B1B-B4CB-13A358C1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22207-8507-4DBE-B791-C7AEA523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A2428-32E5-4CAA-A48F-E979F8D4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84E-160E-4667-95A3-4D67AC55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749C-BC95-421B-B3C1-8CD980B2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D105F-8C93-4819-8EFC-42158B2C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953AB-6678-465F-A809-E831B43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04BF2-A3D9-43C3-8CCF-C3F5F9D1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23B09-1F0D-4EB7-A776-74AFB46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19E1D-F876-496B-ACEE-8A6BB01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5AA26-0EF5-4C96-9C13-472BFA1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3D312-7940-4448-9DFF-E07B482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522B1-6E57-4E03-9E43-3A19D4F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C9A31-97E3-4369-A740-3A113344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A0A-9E83-4114-8120-FA88ED99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6F8F5-4E8C-4B8A-98A3-D117A607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88E58-96D5-458B-B35D-D674AA86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D021A-7247-4D33-BAB5-05EFE931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36B9F-4004-4F5A-8738-75D9C6CD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57A37-14B3-4921-8972-19FB59D2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16664-2792-4187-B862-25A05285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2FECC-BAED-49B6-BE62-5662DCC7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C801E-A012-41C5-8688-E6958F87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DEB6-C576-44EC-A470-CD0D5F77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53905-0E09-4A91-B98E-A32F7B65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FB08-F6DE-489B-868A-BBFCE11A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41CEA-A5A9-4CDB-8F9C-C61CE1A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A33CC-8095-43A3-819A-6EAE2A37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ABF0E-049F-4430-8A8B-255878FE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F0271-8032-4858-8F61-A61A2061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89E8C-5FF0-458C-BE9B-6A12ABC1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A40FE-C4E2-430C-92EB-AA1F0EAE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55981-1CE3-4A0D-B6C9-555130F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13D3F-4C28-4A0C-B101-DA768758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0675A-D308-41E2-9F42-D4F279FA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73166-DC8B-4DF1-B3A8-C01117E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B704-D0B5-4A40-B705-087A954C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E89AA-D319-490A-8AB2-23518459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DA311-1862-4FB8-9DA4-C4C937FC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7F328-21D1-4D5E-9619-93529F33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87479-30F0-4AE2-9B52-E60825C5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53045-F7E0-40E6-BE37-75B05A18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0D33-1244-44B3-AEA0-BB4009B7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3E9D-8101-45AB-A15B-EA5A2A97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1512-69B4-44A9-905C-F1C483C9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5B7D-4E0A-4B97-8FCD-8C68B323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D1EC-41D7-4A69-83AA-184ACEB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4F9-4F80-4162-9A60-0CA183D4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BBB1-707E-4090-B9CF-D3219A7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FA8E-21B9-444B-9E1A-3FCB2A9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37D8-261C-4F1C-A7A6-CC46697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E463-F095-4ACD-97E1-BFC9E167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03EF-AAAA-4096-80A2-DFB4858B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3DD6-F4E8-41C4-B266-986F133A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7FAB-13D5-4CD2-8EB0-1F0C98B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CA93-787C-49D3-91C2-4F5C9626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8837-AC9D-429B-81A3-C55F154E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FDA6-FDB1-498D-875F-0DB7BF0D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13D-9302-4E74-BE59-76886508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2816-CFA7-489B-A95E-DD3B62A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C70E-D92E-48D9-9806-F6B28556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CFF5-A1E2-4AA6-BB85-3E8A220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2BE1-0288-409C-8790-00BE9EE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055A-2067-4E8E-8111-C048BCCB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A419-5F72-4ACF-9ED1-2A73CA5D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E921-F682-4830-867C-3E478CB7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E3FBF-89D2-4C30-8DFA-45A01843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5078-1BB7-47EA-9362-43F82116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2356-FEA2-4122-80DD-F3FD64E9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F3E-DFB6-4622-94AB-4BDB54BB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6E730-CB4D-4AF7-B133-2FBA4183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3805-CC6A-4A09-9B7E-2B7DB0FA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78BC-D2E1-480D-81E7-323C6AA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6BAB-135A-4B94-8F90-273B948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459C-66FD-440D-BF4F-C2DEF737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91A83-2D41-44AA-8C16-0CEC41B3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E5B0-7E34-481C-AD03-A96812D5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931E1-4240-4666-AB76-D2A75DE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EB6E-6162-42BF-8AC9-E3FC6A1C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839A-F898-4E4C-A576-72DABD20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65E-7D88-40CD-92BB-923344DB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A77FF-F721-4803-9DFC-AE029DB3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DCCB-E6E7-451C-9A95-01A5F89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680C-EF49-423D-9F2C-D0121091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D0FEB-61A7-47AB-A031-371A7145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BA20-FC6D-44EE-8511-DC1C084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5DAB6-A3BE-4A89-A00B-BA2AEA5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B8FA5-EA18-48E2-85DE-6ED9BED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D36E-6CF9-41BD-B451-3A85573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D16D-FAB4-469D-AB68-796C642F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FFA7-1F62-443E-96A5-06FD404B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DBD-A4A8-4357-8487-11174EA0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3C490-FA12-41F7-9076-F6C881FE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14EA-01C9-44E4-88A0-1301DBF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E1F01-D47D-49A7-B41B-DFF4E181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4A63-7845-4D9F-A8E5-AC108C30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B788-6E3D-4405-AEFE-4F53F79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88C43-1E86-4CF5-91B6-40E1AAF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39DDA-5402-4870-B08A-5F883C83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54B02-4795-4272-9B32-1A9EF049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7C7E-945F-4F78-B4E1-020F49CC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122DF-11AD-4346-851E-14A922F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8C7-C8EE-4351-BE3C-F4225B1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346DE-528F-4689-AE4B-D620EAE7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BB06-54AA-4B7C-81DA-6631AECB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6EBC1-8446-4BA8-8F39-3803A5D2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57F1C-2000-4904-893D-B2631EB4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D5D9-7CCB-4F7B-A5B9-4975628B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D868-1AF0-4943-9E62-8A402473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EA3E-4F63-4B5D-83D1-D76CEA3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94C0-DDF5-43D8-BBCB-4397834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D481-0E32-4543-AC89-9B10819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7C1FB-9217-402A-8DB4-60A8155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723-A9FE-4A95-A5B5-9715FF61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3115B-2D21-475E-9FEA-C65E7340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7B43-6AA6-4C67-BC08-4900D643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A704-8C35-46BF-8D27-246D1F7E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7411D-CE71-43A1-847E-717DFCF4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43C8E-EED4-4ADC-B8F2-27BEC1A8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3575-4896-45EC-93B9-739BBC11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3D79C-DE59-4620-BCB4-0E719022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4525E-A35A-450A-8762-470DC6AC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EC21-1467-48A7-BF80-489DFC0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71123-2D38-426E-8DC1-0A4D6AD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D9D-73BE-4071-A295-EF7902AD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CDBA2-A396-4458-8345-2EC61EB4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0AC12-D079-47D5-B5CD-615DA4E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810CA-C84F-4082-8F6C-E62E9DC7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5663-D809-4E9E-9D7B-073FE088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357A9-8BCB-4B56-92CB-E85D5292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DE2A-6850-4480-9533-F9A7A2BC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D2DC2-7D5F-4E3B-B0AA-8128D48B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EE425-A689-4AF1-85BA-6A4DC057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37FF2-B716-46C2-855B-F39F4804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7ABE4-DE14-49C4-897F-6BA0A43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8AE1-FA50-4C6A-98FC-443BBAB7075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E7C5-5E3F-4402-8C38-0A32C7839D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5FBF-2D83-4A7C-892D-E93D212FC4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BC24-9847-496D-B707-C3A1CB8F50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BBF2-4692-44C5-A8A4-F5AA425A8D2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887D-6BF6-4BD1-8EE4-2496889F16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8C4-E731-419F-B8B8-BFD5912D94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FDC7-CC1A-4F55-B74A-153FF0E42F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6F0C-8D91-4300-AD98-086DB12652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160-C832-4F2B-B8D9-9E4E090D7E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DFD2-4494-4D8B-AD67-1D3A04DF6F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14DA-7544-431B-9D32-229F91136F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421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2199960" y="1429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夜间飞行的秘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试验结论：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	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0" y="12193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、三次不同的试验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证明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，蝙蝠夜里飞行，靠的不是眼睛，它是用嘴和耳朵配合起来探路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577960" y="4581360"/>
            <a:ext cx="3516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、三次不同的试验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证明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，蝙蝠夜里飞行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靠的不是眼睛，它是用嘴和耳朵探路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WordArt 5"/>
          <p:cNvSpPr txBox="1"/>
          <p:nvPr/>
        </p:nvSpPr>
        <p:spPr>
          <a:xfrm>
            <a:off x="3059280" y="6308640"/>
            <a:ext cx="17524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比较</a:t>
            </a:r>
            <a:endParaRPr b="1" i="1" lang="en-US" sz="24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4389840" y="2852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：用可靠的事实来表明结论的真实性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2771640" y="321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2484360" y="34290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3"/>
          <p:cNvSpPr/>
          <p:nvPr/>
        </p:nvSpPr>
        <p:spPr>
          <a:xfrm>
            <a:off x="468360" y="7444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根据三次试验的内容，分别用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一词说一句话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39640" y="1465200"/>
          <a:ext cx="8280360" cy="4464000"/>
        </p:xfrm>
        <a:graphic>
          <a:graphicData uri="http://schemas.openxmlformats.org/drawingml/2006/table">
            <a:tbl>
              <a:tblPr/>
              <a:tblGrid>
                <a:gridCol w="612720"/>
                <a:gridCol w="460440"/>
                <a:gridCol w="538200"/>
                <a:gridCol w="458640"/>
                <a:gridCol w="1459080"/>
                <a:gridCol w="4751280"/>
              </a:tblGrid>
              <a:tr h="803160"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一次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r>
                        <a:rPr b="0" i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楷体_GB2312"/>
                          <a:ea typeface="楷体_GB2312"/>
                        </a:rPr>
                        <a:t>眼睛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0" i="1" lang="zh-CN" sz="2000" spc="-1" strike="noStrike" u="sng">
                          <a:solidFill>
                            <a:srgbClr val="ff0000"/>
                          </a:solidFill>
                          <a:uFillTx/>
                          <a:latin typeface="楷体_GB2312"/>
                          <a:ea typeface="楷体_GB2312"/>
                        </a:rPr>
                        <a:t>蝙蝠飞了几个钟头，铃铛一个也没响，那么多的绳子，它一根也没碰着。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二次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三次试验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结论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 Box 69"/>
          <p:cNvSpPr/>
          <p:nvPr/>
        </p:nvSpPr>
        <p:spPr>
          <a:xfrm>
            <a:off x="2668680" y="14018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76"/>
          <p:cNvSpPr/>
          <p:nvPr/>
        </p:nvSpPr>
        <p:spPr>
          <a:xfrm>
            <a:off x="3203640" y="36432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Text Box 77"/>
          <p:cNvSpPr/>
          <p:nvPr/>
        </p:nvSpPr>
        <p:spPr>
          <a:xfrm>
            <a:off x="4500720" y="34815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78"/>
          <p:cNvSpPr/>
          <p:nvPr/>
        </p:nvSpPr>
        <p:spPr>
          <a:xfrm>
            <a:off x="3276720" y="4572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79"/>
          <p:cNvSpPr/>
          <p:nvPr/>
        </p:nvSpPr>
        <p:spPr>
          <a:xfrm>
            <a:off x="4500720" y="4375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Text Box 80"/>
          <p:cNvSpPr/>
          <p:nvPr/>
        </p:nvSpPr>
        <p:spPr>
          <a:xfrm>
            <a:off x="1619280" y="5210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三次不同的试验证明，蝙蝠夜里飞行，靠的不是眼睛，它是用嘴和耳朵配合起来探路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1"/>
          <p:cNvSpPr/>
          <p:nvPr/>
        </p:nvSpPr>
        <p:spPr>
          <a:xfrm>
            <a:off x="539640" y="692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理解词语：证明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1116000" y="13971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证明：用可靠的事实来表明结论的真实性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2597040" y="1981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d9d8ec"/>
                </a:solidFill>
                <a:uFillTx/>
                <a:latin typeface="Times New Roman"/>
                <a:ea typeface="楷体_GB2312"/>
              </a:rPr>
              <a:t>联系上下文找句子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539640" y="270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646200" y="26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根据三次试验的内容，分别用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证明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一词说一句话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Line 17"/>
          <p:cNvSpPr/>
          <p:nvPr/>
        </p:nvSpPr>
        <p:spPr>
          <a:xfrm>
            <a:off x="2743200" y="1905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24000" y="4005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把蝙蝠的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结果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证明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_____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12"/>
          <p:cNvSpPr/>
          <p:nvPr/>
        </p:nvSpPr>
        <p:spPr>
          <a:xfrm>
            <a:off x="611280" y="1557360"/>
            <a:ext cx="2881080" cy="395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8" name="Picture 14" descr="CPL_031"/>
          <p:cNvPicPr/>
          <p:nvPr/>
        </p:nvPicPr>
        <p:blipFill>
          <a:blip r:embed="rId4"/>
          <a:stretch/>
        </p:blipFill>
        <p:spPr>
          <a:xfrm>
            <a:off x="611280" y="1806480"/>
            <a:ext cx="2857320" cy="1190880"/>
          </a:xfrm>
          <a:prstGeom prst="rect">
            <a:avLst/>
          </a:prstGeom>
          <a:ln w="0">
            <a:noFill/>
          </a:ln>
        </p:spPr>
      </p:pic>
      <p:sp>
        <p:nvSpPr>
          <p:cNvPr id="589" name="AutoShape 15"/>
          <p:cNvSpPr/>
          <p:nvPr/>
        </p:nvSpPr>
        <p:spPr>
          <a:xfrm>
            <a:off x="2340000" y="4724280"/>
            <a:ext cx="1008000" cy="72072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Freeform 18"/>
          <p:cNvSpPr/>
          <p:nvPr/>
        </p:nvSpPr>
        <p:spPr>
          <a:xfrm>
            <a:off x="1692360" y="2924280"/>
            <a:ext cx="863640" cy="230040"/>
          </a:xfrm>
          <a:custGeom>
            <a:avLst/>
            <a:gdLst/>
            <a:ahLst/>
            <a:rect l="l" t="t" r="r" b="b"/>
            <a:pathLst>
              <a:path w="544" h="145">
                <a:moveTo>
                  <a:pt x="0" y="46"/>
                </a:moveTo>
                <a:cubicBezTo>
                  <a:pt x="90" y="95"/>
                  <a:pt x="181" y="145"/>
                  <a:pt x="272" y="137"/>
                </a:cubicBezTo>
                <a:cubicBezTo>
                  <a:pt x="363" y="129"/>
                  <a:pt x="499" y="23"/>
                  <a:pt x="5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Freeform 19"/>
          <p:cNvSpPr/>
          <p:nvPr/>
        </p:nvSpPr>
        <p:spPr>
          <a:xfrm>
            <a:off x="1403280" y="3068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46"/>
                </a:moveTo>
                <a:cubicBezTo>
                  <a:pt x="128" y="140"/>
                  <a:pt x="257" y="235"/>
                  <a:pt x="408" y="227"/>
                </a:cubicBezTo>
                <a:cubicBezTo>
                  <a:pt x="559" y="219"/>
                  <a:pt x="733" y="109"/>
                  <a:pt x="9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Freeform 20"/>
          <p:cNvSpPr/>
          <p:nvPr/>
        </p:nvSpPr>
        <p:spPr>
          <a:xfrm>
            <a:off x="1116000" y="3284640"/>
            <a:ext cx="2016000" cy="517320"/>
          </a:xfrm>
          <a:custGeom>
            <a:avLst/>
            <a:gdLst/>
            <a:ahLst/>
            <a:rect l="l" t="t" r="r" b="b"/>
            <a:pathLst>
              <a:path w="1270" h="326">
                <a:moveTo>
                  <a:pt x="0" y="46"/>
                </a:moveTo>
                <a:cubicBezTo>
                  <a:pt x="143" y="186"/>
                  <a:pt x="287" y="326"/>
                  <a:pt x="499" y="318"/>
                </a:cubicBezTo>
                <a:cubicBezTo>
                  <a:pt x="711" y="310"/>
                  <a:pt x="990" y="155"/>
                  <a:pt x="12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Freeform 23"/>
          <p:cNvSpPr/>
          <p:nvPr/>
        </p:nvSpPr>
        <p:spPr>
          <a:xfrm>
            <a:off x="900000" y="3645000"/>
            <a:ext cx="2376720" cy="731880"/>
          </a:xfrm>
          <a:custGeom>
            <a:avLst/>
            <a:gdLst/>
            <a:ahLst/>
            <a:rect l="l" t="t" r="r" b="b"/>
            <a:pathLst>
              <a:path w="1497" h="461">
                <a:moveTo>
                  <a:pt x="0" y="45"/>
                </a:moveTo>
                <a:cubicBezTo>
                  <a:pt x="193" y="253"/>
                  <a:pt x="386" y="461"/>
                  <a:pt x="635" y="454"/>
                </a:cubicBezTo>
                <a:cubicBezTo>
                  <a:pt x="884" y="447"/>
                  <a:pt x="1353" y="76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Freeform 26"/>
          <p:cNvSpPr/>
          <p:nvPr/>
        </p:nvSpPr>
        <p:spPr>
          <a:xfrm>
            <a:off x="826920" y="4076640"/>
            <a:ext cx="2592720" cy="912960"/>
          </a:xfrm>
          <a:custGeom>
            <a:avLst/>
            <a:gdLst/>
            <a:ahLst/>
            <a:rect l="l" t="t" r="r" b="b"/>
            <a:pathLst>
              <a:path w="1633" h="575">
                <a:moveTo>
                  <a:pt x="0" y="182"/>
                </a:moveTo>
                <a:cubicBezTo>
                  <a:pt x="272" y="378"/>
                  <a:pt x="545" y="575"/>
                  <a:pt x="817" y="545"/>
                </a:cubicBezTo>
                <a:cubicBezTo>
                  <a:pt x="1089" y="515"/>
                  <a:pt x="1497" y="91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Freeform 27"/>
          <p:cNvSpPr/>
          <p:nvPr/>
        </p:nvSpPr>
        <p:spPr>
          <a:xfrm>
            <a:off x="2268360" y="4508640"/>
            <a:ext cx="358920" cy="288720"/>
          </a:xfrm>
          <a:custGeom>
            <a:avLst/>
            <a:gdLst/>
            <a:ahLst/>
            <a:rect l="l" t="t" r="r" b="b"/>
            <a:pathLst>
              <a:path w="226" h="182">
                <a:moveTo>
                  <a:pt x="0" y="182"/>
                </a:moveTo>
                <a:cubicBezTo>
                  <a:pt x="4" y="151"/>
                  <a:pt x="8" y="121"/>
                  <a:pt x="45" y="91"/>
                </a:cubicBezTo>
                <a:cubicBezTo>
                  <a:pt x="82" y="61"/>
                  <a:pt x="196" y="15"/>
                  <a:pt x="22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Freeform 28"/>
          <p:cNvSpPr/>
          <p:nvPr/>
        </p:nvSpPr>
        <p:spPr>
          <a:xfrm>
            <a:off x="1908000" y="4005360"/>
            <a:ext cx="863640" cy="718920"/>
          </a:xfrm>
          <a:custGeom>
            <a:avLst/>
            <a:gdLst/>
            <a:ahLst/>
            <a:rect l="l" t="t" r="r" b="b"/>
            <a:pathLst>
              <a:path w="544" h="453">
                <a:moveTo>
                  <a:pt x="0" y="453"/>
                </a:moveTo>
                <a:cubicBezTo>
                  <a:pt x="22" y="355"/>
                  <a:pt x="45" y="257"/>
                  <a:pt x="136" y="181"/>
                </a:cubicBezTo>
                <a:cubicBezTo>
                  <a:pt x="227" y="105"/>
                  <a:pt x="385" y="52"/>
                  <a:pt x="544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Freeform 29"/>
          <p:cNvSpPr/>
          <p:nvPr/>
        </p:nvSpPr>
        <p:spPr>
          <a:xfrm>
            <a:off x="1476360" y="3429000"/>
            <a:ext cx="1440000" cy="1079640"/>
          </a:xfrm>
          <a:custGeom>
            <a:avLst/>
            <a:gdLst/>
            <a:ahLst/>
            <a:rect l="l" t="t" r="r" b="b"/>
            <a:pathLst>
              <a:path w="907" h="680">
                <a:moveTo>
                  <a:pt x="0" y="680"/>
                </a:moveTo>
                <a:cubicBezTo>
                  <a:pt x="37" y="532"/>
                  <a:pt x="75" y="385"/>
                  <a:pt x="226" y="272"/>
                </a:cubicBezTo>
                <a:cubicBezTo>
                  <a:pt x="377" y="159"/>
                  <a:pt x="642" y="79"/>
                  <a:pt x="90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Freeform 30"/>
          <p:cNvSpPr/>
          <p:nvPr/>
        </p:nvSpPr>
        <p:spPr>
          <a:xfrm>
            <a:off x="971640" y="2924280"/>
            <a:ext cx="2087640" cy="1296720"/>
          </a:xfrm>
          <a:custGeom>
            <a:avLst/>
            <a:gdLst/>
            <a:ahLst/>
            <a:rect l="l" t="t" r="r" b="b"/>
            <a:pathLst>
              <a:path w="1315" h="817">
                <a:moveTo>
                  <a:pt x="0" y="817"/>
                </a:moveTo>
                <a:cubicBezTo>
                  <a:pt x="140" y="590"/>
                  <a:pt x="280" y="363"/>
                  <a:pt x="499" y="227"/>
                </a:cubicBezTo>
                <a:cubicBezTo>
                  <a:pt x="718" y="91"/>
                  <a:pt x="1016" y="45"/>
                  <a:pt x="131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Freeform 33"/>
          <p:cNvSpPr/>
          <p:nvPr/>
        </p:nvSpPr>
        <p:spPr>
          <a:xfrm>
            <a:off x="684360" y="2276640"/>
            <a:ext cx="2374920" cy="1368360"/>
          </a:xfrm>
          <a:custGeom>
            <a:avLst/>
            <a:gdLst/>
            <a:ahLst/>
            <a:rect l="l" t="t" r="r" b="b"/>
            <a:pathLst>
              <a:path w="1496" h="862">
                <a:moveTo>
                  <a:pt x="0" y="862"/>
                </a:moveTo>
                <a:cubicBezTo>
                  <a:pt x="147" y="594"/>
                  <a:pt x="295" y="326"/>
                  <a:pt x="544" y="182"/>
                </a:cubicBezTo>
                <a:cubicBezTo>
                  <a:pt x="793" y="38"/>
                  <a:pt x="1144" y="19"/>
                  <a:pt x="14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2268360" y="49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障碍物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611280" y="476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读课文第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6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节，动手画画示意图，说说蝙蝠用嘴和耳朵配合起来探路的经过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Freeform 36"/>
          <p:cNvSpPr/>
          <p:nvPr/>
        </p:nvSpPr>
        <p:spPr>
          <a:xfrm>
            <a:off x="684360" y="1844640"/>
            <a:ext cx="2519280" cy="936720"/>
          </a:xfrm>
          <a:custGeom>
            <a:avLst/>
            <a:gdLst/>
            <a:ahLst/>
            <a:rect l="l" t="t" r="r" b="b"/>
            <a:pathLst>
              <a:path w="1587" h="590">
                <a:moveTo>
                  <a:pt x="0" y="590"/>
                </a:moveTo>
                <a:cubicBezTo>
                  <a:pt x="207" y="386"/>
                  <a:pt x="415" y="182"/>
                  <a:pt x="680" y="91"/>
                </a:cubicBezTo>
                <a:cubicBezTo>
                  <a:pt x="945" y="0"/>
                  <a:pt x="1443" y="53"/>
                  <a:pt x="1587" y="4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37"/>
          <p:cNvSpPr/>
          <p:nvPr/>
        </p:nvSpPr>
        <p:spPr>
          <a:xfrm>
            <a:off x="3886200" y="1676520"/>
            <a:ext cx="47577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它一边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一边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人的耳朵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蝙蝠的耳朵却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像波浪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样向前推进，遇到障碍物就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传到蝙蝠的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里，蝙蝠就立刻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5"/>
          <p:cNvSpPr/>
          <p:nvPr/>
        </p:nvSpPr>
        <p:spPr>
          <a:xfrm>
            <a:off x="539640" y="692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七小节，完成下列填空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611280" y="162864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                  (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的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 )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相当于蝙蝠的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 )                  (     )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1763640" y="2491920"/>
            <a:ext cx="506520" cy="1197000"/>
            <a:chOff x="1763640" y="2491920"/>
            <a:chExt cx="506520" cy="1197000"/>
          </a:xfrm>
        </p:grpSpPr>
        <p:sp>
          <p:nvSpPr>
            <p:cNvPr id="611" name="Line 13"/>
            <p:cNvSpPr/>
            <p:nvPr/>
          </p:nvSpPr>
          <p:spPr>
            <a:xfrm flipV="1">
              <a:off x="1763640" y="24919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14"/>
            <p:cNvSpPr/>
            <p:nvPr/>
          </p:nvSpPr>
          <p:spPr>
            <a:xfrm>
              <a:off x="1763640" y="31327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15"/>
            <p:cNvSpPr/>
            <p:nvPr/>
          </p:nvSpPr>
          <p:spPr>
            <a:xfrm>
              <a:off x="1763640" y="31327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4" name="Group 16"/>
          <p:cNvGrpSpPr/>
          <p:nvPr/>
        </p:nvGrpSpPr>
        <p:grpSpPr>
          <a:xfrm>
            <a:off x="6372360" y="2491920"/>
            <a:ext cx="506160" cy="1197000"/>
            <a:chOff x="6372360" y="2491920"/>
            <a:chExt cx="506160" cy="1197000"/>
          </a:xfrm>
        </p:grpSpPr>
        <p:sp>
          <p:nvSpPr>
            <p:cNvPr id="615" name="Line 17"/>
            <p:cNvSpPr/>
            <p:nvPr/>
          </p:nvSpPr>
          <p:spPr>
            <a:xfrm flipV="1">
              <a:off x="6372360" y="24919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Line 18"/>
            <p:cNvSpPr/>
            <p:nvPr/>
          </p:nvSpPr>
          <p:spPr>
            <a:xfrm>
              <a:off x="6372360" y="313272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7" name="Line 19"/>
            <p:cNvSpPr/>
            <p:nvPr/>
          </p:nvSpPr>
          <p:spPr>
            <a:xfrm>
              <a:off x="6372360" y="31327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8" name="Group 20"/>
          <p:cNvGrpSpPr/>
          <p:nvPr/>
        </p:nvGrpSpPr>
        <p:grpSpPr>
          <a:xfrm>
            <a:off x="3686040" y="2492280"/>
            <a:ext cx="505080" cy="1151640"/>
            <a:chOff x="3686040" y="2492280"/>
            <a:chExt cx="505080" cy="1151640"/>
          </a:xfrm>
        </p:grpSpPr>
        <p:sp>
          <p:nvSpPr>
            <p:cNvPr id="619" name="Line 21"/>
            <p:cNvSpPr/>
            <p:nvPr/>
          </p:nvSpPr>
          <p:spPr>
            <a:xfrm>
              <a:off x="3686040" y="249228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0" name="Line 22"/>
            <p:cNvSpPr/>
            <p:nvPr/>
          </p:nvSpPr>
          <p:spPr>
            <a:xfrm>
              <a:off x="3686040" y="31125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3686040" y="311220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2" name="Text Box 24"/>
          <p:cNvSpPr/>
          <p:nvPr/>
        </p:nvSpPr>
        <p:spPr>
          <a:xfrm>
            <a:off x="241128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天线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Text Box 25"/>
          <p:cNvSpPr/>
          <p:nvPr/>
        </p:nvSpPr>
        <p:spPr>
          <a:xfrm>
            <a:off x="7236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Text Box 26"/>
          <p:cNvSpPr/>
          <p:nvPr/>
        </p:nvSpPr>
        <p:spPr>
          <a:xfrm>
            <a:off x="2209680" y="28954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无线电波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Text Box 27"/>
          <p:cNvSpPr/>
          <p:nvPr/>
        </p:nvSpPr>
        <p:spPr>
          <a:xfrm>
            <a:off x="6877080" y="29098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超声波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6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荧光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7020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611280" y="4724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因为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……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所以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……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说说蝙蝠和雷达之间的科学联系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2"/>
          <p:cNvSpPr/>
          <p:nvPr/>
        </p:nvSpPr>
        <p:spPr>
          <a:xfrm>
            <a:off x="539640" y="476280"/>
            <a:ext cx="777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小结：科学家从蝙蝠探路的试验和研究得到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启示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，发明了雷达，这就是蝙蝠与雷达的联系，所以课题要用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和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来连接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914400" y="266688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1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、启示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2843280" y="2637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启发指示，使有所领悟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684360" y="3429000"/>
            <a:ext cx="777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0" i="1" lang="en-US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2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、查字典比较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试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实验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609480" y="4114800"/>
            <a:ext cx="820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试验：为了查看某事的结果或某物的性能而从事某种活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Text Box 17"/>
          <p:cNvSpPr/>
          <p:nvPr/>
        </p:nvSpPr>
        <p:spPr>
          <a:xfrm>
            <a:off x="684360" y="4941720"/>
            <a:ext cx="8154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实验：</a:t>
            </a:r>
            <a:r>
              <a:rPr b="0" i="1" lang="zh-CN" sz="2800" spc="-1" strike="noStrike" u="sng">
                <a:solidFill>
                  <a:srgbClr val="7030a0"/>
                </a:solidFill>
                <a:uFillTx/>
                <a:latin typeface="Times New Roman"/>
                <a:ea typeface="楷体_GB2312"/>
              </a:rPr>
              <a:t>为了检验某种科学理论或假设而进行某种操作或从事某种活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8" name="Picture 18" descr="add"/>
          <p:cNvPicPr/>
          <p:nvPr/>
        </p:nvPicPr>
        <p:blipFill>
          <a:blip r:embed="rId4"/>
          <a:stretch/>
        </p:blipFill>
        <p:spPr>
          <a:xfrm>
            <a:off x="8101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0"/>
          <p:cNvSpPr/>
          <p:nvPr/>
        </p:nvSpPr>
        <p:spPr>
          <a:xfrm>
            <a:off x="2357280" y="485784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检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2438280" y="4038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查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9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755640" y="3254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你还知道哪些东西也是受到动物特点的启发而发明的？向同学作介绍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6" name="Picture 12" descr="dolphin04_1024x768"/>
          <p:cNvPicPr/>
          <p:nvPr/>
        </p:nvPicPr>
        <p:blipFill>
          <a:blip r:embed="rId4"/>
          <a:stretch/>
        </p:blipFill>
        <p:spPr>
          <a:xfrm>
            <a:off x="826920" y="1839960"/>
            <a:ext cx="2297160" cy="18064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7" name="Picture 14" descr="007"/>
          <p:cNvPicPr/>
          <p:nvPr/>
        </p:nvPicPr>
        <p:blipFill>
          <a:blip r:embed="rId5"/>
          <a:stretch/>
        </p:blipFill>
        <p:spPr>
          <a:xfrm>
            <a:off x="685800" y="3809880"/>
            <a:ext cx="2309760" cy="18147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8" name="Picture 16" descr="9711f32966327e946042cebaffa22592_m"/>
          <p:cNvPicPr/>
          <p:nvPr/>
        </p:nvPicPr>
        <p:blipFill>
          <a:blip r:embed="rId6"/>
          <a:stretch/>
        </p:blipFill>
        <p:spPr>
          <a:xfrm>
            <a:off x="3348000" y="1851120"/>
            <a:ext cx="2367000" cy="1776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9" name="Picture 18" descr="04366-10"/>
          <p:cNvPicPr/>
          <p:nvPr/>
        </p:nvPicPr>
        <p:blipFill>
          <a:blip r:embed="rId7"/>
          <a:stretch/>
        </p:blipFill>
        <p:spPr>
          <a:xfrm>
            <a:off x="3348000" y="3836880"/>
            <a:ext cx="2519280" cy="1827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0" name="Picture 20" descr="20060830201009323"/>
          <p:cNvPicPr/>
          <p:nvPr/>
        </p:nvPicPr>
        <p:blipFill>
          <a:blip r:embed="rId8"/>
          <a:stretch/>
        </p:blipFill>
        <p:spPr>
          <a:xfrm>
            <a:off x="6019920" y="1762200"/>
            <a:ext cx="2819160" cy="1879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1" name="Picture 22" descr="11465480347750578"/>
          <p:cNvPicPr/>
          <p:nvPr/>
        </p:nvPicPr>
        <p:blipFill>
          <a:blip r:embed="rId9"/>
          <a:stretch/>
        </p:blipFill>
        <p:spPr>
          <a:xfrm>
            <a:off x="6172200" y="3784680"/>
            <a:ext cx="25146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39528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作业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68360" y="907920"/>
            <a:ext cx="8280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抄写词语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  避开  敏锐  模仿  超声波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障碍物  荧光屏  横七竖八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照样子把下面的句子补充完整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在漆黑的夜里，飞机怎么能安全飞行呢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原来是人们从蝙蝠身上得到了启示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今天是星期一，学校里怎么一个学生也没有呢？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课外收集资料，说说事物之间有什么联系，又是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怎样联系的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back"/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684360" y="836640"/>
            <a:ext cx="7921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选词填空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试验    实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科学家经过反复（    ），终于揭开了蝙蝠能在夜间飞行的秘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常识课上，老师为我们做了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烧纸杯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（   ），看得我们目瞪口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428472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试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971640" y="485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实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25"/>
          <p:cNvSpPr/>
          <p:nvPr/>
        </p:nvSpPr>
        <p:spPr>
          <a:xfrm>
            <a:off x="380880" y="762120"/>
            <a:ext cx="79218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敏锐    敏捷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兔子（       ）地一跳，躲开了老鹰的攻击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蝙蝠能在夜间安全飞行，是因为它的眼睛特别（       ）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Text Box 26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选词填空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Text Box 27"/>
          <p:cNvSpPr/>
          <p:nvPr/>
        </p:nvSpPr>
        <p:spPr>
          <a:xfrm>
            <a:off x="2819520" y="228600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敏捷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Text Box 28"/>
          <p:cNvSpPr/>
          <p:nvPr/>
        </p:nvSpPr>
        <p:spPr>
          <a:xfrm>
            <a:off x="4724280" y="50292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敏锐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自学要求：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187280" y="1989000"/>
            <a:ext cx="727416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读一读：读准字音，读通课文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想一想：在漆黑的夜里，飞机怎么能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全飞行呢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问一问：读了课文，你有什么问题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2"/>
          <p:cNvSpPr/>
          <p:nvPr/>
        </p:nvSpPr>
        <p:spPr>
          <a:xfrm>
            <a:off x="0" y="533520"/>
            <a:ext cx="8610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学习生字：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蛾 铛 蒙 蝇 障 碍 摹 荧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7" name="Picture 13" descr="田字格"/>
          <p:cNvPicPr/>
          <p:nvPr/>
        </p:nvPicPr>
        <p:blipFill>
          <a:blip r:embed="rId1"/>
          <a:stretch/>
        </p:blipFill>
        <p:spPr>
          <a:xfrm>
            <a:off x="684360" y="2492280"/>
            <a:ext cx="302400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8" name="Text Box 14"/>
          <p:cNvSpPr/>
          <p:nvPr/>
        </p:nvSpPr>
        <p:spPr>
          <a:xfrm>
            <a:off x="1349640" y="2276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摹</a:t>
            </a:r>
            <a:endParaRPr b="0" i="1" lang="en-US" sz="2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572000" y="2743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根据音节读准字音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蛾（         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碍（         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003640" y="2924280"/>
            <a:ext cx="3529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é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i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76320" y="38088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雷达  蝙蝠  避开 敏锐  模仿 捕捉 漆黑  超声波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障碍物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试验 铃铛 荧光屏 配合 探路 秘密 横七竖八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摹仿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研究 驾驶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8"/>
          <p:cNvSpPr/>
          <p:nvPr/>
        </p:nvSpPr>
        <p:spPr>
          <a:xfrm>
            <a:off x="304920" y="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在漆黑的夜里，飞机怎么能安全飞行呢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原来是人们从蝙蝠身上得到了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4"/>
          <p:cNvSpPr/>
          <p:nvPr/>
        </p:nvSpPr>
        <p:spPr>
          <a:xfrm>
            <a:off x="4693680" y="508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</a:rPr>
              <a:t>启发指示，使有所领悟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755640" y="9061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蝙蝠在夜里飞行，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还能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捉飞蛾和蚊子，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而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无论怎么飞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从来没见过它跟什么东西相撞，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使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根极细的电线，它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也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能灵巧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避开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难道它的眼睛特别敏锐，能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在漆黑的夜里看清楚所有的东西吗？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7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一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____________________________________________________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Text Box 66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67"/>
          <p:cNvSpPr/>
          <p:nvPr/>
        </p:nvSpPr>
        <p:spPr>
          <a:xfrm>
            <a:off x="2514600" y="380988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眼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68"/>
          <p:cNvSpPr/>
          <p:nvPr/>
        </p:nvSpPr>
        <p:spPr>
          <a:xfrm>
            <a:off x="4427640" y="3086280"/>
            <a:ext cx="424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飞了几个钟头，铃铛一个也没响，那么多的绳子，它一根也没碰着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Text Box 22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2286000" y="3733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耳朵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读课文第四小节，完成第一次试验记录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826920" y="1773360"/>
          <a:ext cx="777708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360"/>
                <a:gridCol w="4464000"/>
              </a:tblGrid>
              <a:tr h="934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三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结果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22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23"/>
          <p:cNvSpPr/>
          <p:nvPr/>
        </p:nvSpPr>
        <p:spPr>
          <a:xfrm>
            <a:off x="2286000" y="3733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嘴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24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25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11Z</dcterms:created>
  <dc:creator/>
  <dc:description/>
  <dc:language>en-US</dc:language>
  <cp:lastModifiedBy>万润仪器贸易公司</cp:lastModifiedBy>
  <dcterms:modified xsi:type="dcterms:W3CDTF">2020-08-24T03:34:31Z</dcterms:modified>
  <cp:revision>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